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9DF9-2965-4F24-8E42-49011A4D8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2BB1-2878-4AF1-8BE5-D16A89561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0955-259A-4A90-A907-4E9368A4A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1A95-91F1-4CDC-88C8-7F5713AE7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7A2C-6B8D-4DED-95FA-3445FCA74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BD5C-FA9E-4E0D-97CD-925AEC8F1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5F08-016C-4DDD-B9D4-D7F6FFC4B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20EB-7916-44E4-AEB6-3D39A2752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406C-649C-497B-B988-1FE406693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F722-5171-4DBC-BA76-1E9D1998D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83FA-E36E-4293-AA05-02F1C9B47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B782-63B8-40B6-96B7-E2A5FBEB2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E3124-A0CB-4C67-98CD-9076F63362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rm - up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6840" y="1828440"/>
            <a:ext cx="80010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% of 8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0% of $12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2% of $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371600" y="1904760"/>
            <a:ext cx="64008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ring Shopping W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t 10 Percent Exten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ive:  Students will find the percent of discount and the sale pri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ive:  Students will find the percent of discount and the sale pri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0074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Vocabulary: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iscount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decrease in the price of an item is a discount.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do we find the discou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p 1: Change the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perc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discount into a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decim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p 2: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Multipl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 decimal times the original pric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gives you your discou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mount that you are </a:t>
            </a: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sa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40600" y="228600"/>
            <a:ext cx="747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ive:  Students will find the percent of discount and the sale pri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510552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mart is having a sale.  All DVDs are on sale for 20% off. The original price of the new Harry Potter DVD is $15.  How much money will you save if you but it on sale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le Pr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1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ing the sale price is easy once you know the discount, or amount that you’re saving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1: Take the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original pr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subtra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discou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your sale pric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40600" y="380880"/>
            <a:ext cx="747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ive:  Students will find the percent of discount and the sale pri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’s try one together: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are purchasing an PacSun sweatshirt, which is 30% off the original price of $68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1: Write 30% as a dec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2: Multiply 68 x .3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we are saving $20.40 (our discount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’s find the sale price . . .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40600" y="228600"/>
            <a:ext cx="747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ive:  Students will find the percent of discount and the sale pri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762120" y="3352680"/>
            <a:ext cx="800712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 3: Subtract the discount from the original pri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$68.00 – $20.40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le Price 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$47.6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336840" y="960480"/>
            <a:ext cx="2468520" cy="24685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599040" y="228600"/>
            <a:ext cx="747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ive:  Students will find the percent of discount and the sale pri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y some on your own: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 find the discount, and then calculate the final sale price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) Target is selling the Apple iPod Touch at 15% off its original price. What is the sale price of the iPod that was originally priced at $199.00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23080" y="380880"/>
            <a:ext cx="747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ive:  Students will find the percent of discount and the sale pri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837720" y="533160"/>
            <a:ext cx="80074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) You see a game that you want. It is originally priced at $20.00, but it is marked 24% off. What is the sale pric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) Original Price: $42.9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ount: 1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le Pric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) Original Price: $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ount: 12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le Pric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1T03:13:00Z</dcterms:created>
  <dc:creator>Brian McGrath</dc:creator>
  <dc:description/>
  <dc:language>en-US</dc:language>
  <cp:lastModifiedBy>Brian McGrath</cp:lastModifiedBy>
  <dcterms:modified xsi:type="dcterms:W3CDTF">2011-03-23T02:24:08Z</dcterms:modified>
  <cp:revision>3</cp:revision>
  <dc:subject/>
  <dc:title>Warm - up:</dc:title>
</cp:coreProperties>
</file>